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144-AF01-42D6-BA0B-36AB786A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985-1ABA-42B9-9866-53E45EA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EFB-F3AA-40A3-9245-CF5AB7FF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8B-04F6-48B6-A341-DF82811C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0C9-FF7F-444A-A206-64E1FA9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000-3855-4193-8984-76A55FD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DF9-D744-4A57-876E-622EA62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0BF-EC0E-4705-9A82-D04820B3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006-3A4E-44EB-A165-C0F7995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232-C560-46EE-AA21-DFBFCC4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2E5-8D1B-49B0-BC32-D47F17A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15A-3E93-486F-96B9-D6C3E0E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F65-E62F-44DB-8886-A6B413BE3C4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Vincent_van_Gogh_-_Valley_with_Ploughman_Seen_from_Abov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e/WLANL_-_MicheleLovesArt_-_Van_Gogh_Museum_-_The_yellow_house_(&apos;The_street&apos;),_188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Vincent_Van_Gogh_001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d/dd/Van_Gogh_Self-Portrait_with_Grey_Felt_Hat_1886-87_Rijksmuseum.jpg"/>
          <p:cNvPicPr/>
          <p:nvPr/>
        </p:nvPicPr>
        <p:blipFill>
          <a:blip r:embed="rId1"/>
          <a:stretch/>
        </p:blipFill>
        <p:spPr>
          <a:xfrm>
            <a:off x="2276640" y="907920"/>
            <a:ext cx="440820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textruta 3"/>
          <p:cNvSpPr/>
          <p:nvPr/>
        </p:nvSpPr>
        <p:spPr>
          <a:xfrm>
            <a:off x="2541600" y="20160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Vincent Van Gog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2916360" y="631512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jälvporträtt (188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File:Vincent van Gogh - Valley with Ploughman Seen from Abo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47680"/>
            <a:ext cx="7361280" cy="5904000"/>
          </a:xfrm>
          <a:prstGeom prst="rect">
            <a:avLst/>
          </a:prstGeom>
          <a:ln w="0">
            <a:noFill/>
          </a:ln>
        </p:spPr>
      </p:pic>
      <p:sp>
        <p:nvSpPr>
          <p:cNvPr id="45" name="textruta 3"/>
          <p:cNvSpPr/>
          <p:nvPr/>
        </p:nvSpPr>
        <p:spPr>
          <a:xfrm>
            <a:off x="1625400" y="6269040"/>
            <a:ext cx="57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Dal med man som plogar sedd ovanifrån – sid 5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WLANL - MicheleLovesArt - Van Gogh Museum - The yellow house ('The street'), 188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60280"/>
            <a:ext cx="7272360" cy="6010200"/>
          </a:xfrm>
          <a:prstGeom prst="rect">
            <a:avLst/>
          </a:prstGeom>
          <a:ln w="0">
            <a:noFill/>
          </a:ln>
        </p:spPr>
      </p:pic>
      <p:sp>
        <p:nvSpPr>
          <p:cNvPr id="47" name="textruta 1"/>
          <p:cNvSpPr/>
          <p:nvPr/>
        </p:nvSpPr>
        <p:spPr>
          <a:xfrm>
            <a:off x="2136600" y="636264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Det gula huset (1888) – sid 61 och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e:Vincent Van Gogh 0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60280"/>
            <a:ext cx="4629240" cy="60134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1"/>
          <p:cNvSpPr/>
          <p:nvPr/>
        </p:nvSpPr>
        <p:spPr>
          <a:xfrm>
            <a:off x="2894760" y="63133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olrosor (1888) – sid 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le:Van Gogh - La Mousmé im Lehnstuhl.jpeg"/>
          <p:cNvPicPr/>
          <p:nvPr/>
        </p:nvPicPr>
        <p:blipFill>
          <a:blip r:embed="rId1"/>
          <a:stretch/>
        </p:blipFill>
        <p:spPr>
          <a:xfrm>
            <a:off x="2313000" y="260280"/>
            <a:ext cx="4562640" cy="6043680"/>
          </a:xfrm>
          <a:prstGeom prst="rect">
            <a:avLst/>
          </a:prstGeom>
          <a:ln w="0">
            <a:noFill/>
          </a:ln>
        </p:spPr>
      </p:pic>
      <p:sp>
        <p:nvSpPr>
          <p:cNvPr id="51" name="Rektangel 1"/>
          <p:cNvSpPr/>
          <p:nvPr/>
        </p:nvSpPr>
        <p:spPr>
          <a:xfrm>
            <a:off x="2313000" y="6332400"/>
            <a:ext cx="45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 Gogh, Porträtt av en kvinna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le:Vincent Willem van Gogh 110.jpg"/>
          <p:cNvPicPr/>
          <p:nvPr/>
        </p:nvPicPr>
        <p:blipFill>
          <a:blip r:embed="rId1"/>
          <a:stretch/>
        </p:blipFill>
        <p:spPr>
          <a:xfrm>
            <a:off x="2195640" y="260280"/>
            <a:ext cx="4599000" cy="6091200"/>
          </a:xfrm>
          <a:prstGeom prst="rect">
            <a:avLst/>
          </a:prstGeom>
          <a:ln w="0">
            <a:noFill/>
          </a:ln>
        </p:spPr>
      </p:pic>
      <p:sp>
        <p:nvSpPr>
          <p:cNvPr id="53" name="textruta 1"/>
          <p:cNvSpPr/>
          <p:nvPr/>
        </p:nvSpPr>
        <p:spPr>
          <a:xfrm>
            <a:off x="2114640" y="64533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jälvporträtt i halmhatt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Van Gogh - Terrasse des Cafés an der Place du Forum in Arles am Abend1.jpeg"/>
          <p:cNvPicPr/>
          <p:nvPr/>
        </p:nvPicPr>
        <p:blipFill>
          <a:blip r:embed="rId1"/>
          <a:stretch/>
        </p:blipFill>
        <p:spPr>
          <a:xfrm>
            <a:off x="2268360" y="260280"/>
            <a:ext cx="4607280" cy="6054840"/>
          </a:xfrm>
          <a:prstGeom prst="rect">
            <a:avLst/>
          </a:prstGeom>
          <a:ln w="0">
            <a:noFill/>
          </a:ln>
        </p:spPr>
      </p:pic>
      <p:sp>
        <p:nvSpPr>
          <p:cNvPr id="55" name="textruta 1"/>
          <p:cNvSpPr/>
          <p:nvPr/>
        </p:nvSpPr>
        <p:spPr>
          <a:xfrm>
            <a:off x="2891880" y="63277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 Ett café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3:54:44Z</dcterms:created>
  <dc:creator>Rebecca Borg</dc:creator>
  <dc:description/>
  <dc:language>en-US</dc:language>
  <cp:lastModifiedBy>Rebecca Borg</cp:lastModifiedBy>
  <dcterms:modified xsi:type="dcterms:W3CDTF">2011-01-08T15:04:17Z</dcterms:modified>
  <cp:revision>4</cp:revision>
  <dc:subject/>
  <dc:title>PowerPoint-presentation</dc:title>
</cp:coreProperties>
</file>